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F127B-3EDF-491C-A02F-6384BD605A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234E-7558-45DF-BDDB-394B367B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5B04E-BFC6-4052-AE18-53A03E39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EB3E-2D60-42A4-800A-D95FC3F4FC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9345-96BE-45DB-99EC-29996B8E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13AD-78F9-4A34-BABF-543B3E25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B48E-7241-4864-B7D2-99F01E3D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3D7C-1DFF-4F24-BBF9-C026C4CC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2F2A3-6EDC-4007-8132-757E5796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AFB6-FBBC-40F6-B10B-554D5A1A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9779-2A74-4C01-965C-BB933824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474C-2132-48B2-A420-7FBF5D14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C78B-1949-4789-B5F5-02CE046C82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684360" y="2707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第十四节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便  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2491920"/>
            <a:ext cx="47624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抑郁症和焦虑障碍的患者也常常伴有胃肠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3" descr="20072813431483"/>
          <p:cNvPicPr/>
          <p:nvPr/>
        </p:nvPicPr>
        <p:blipFill>
          <a:blip r:embed="rId1"/>
          <a:stretch/>
        </p:blipFill>
        <p:spPr>
          <a:xfrm>
            <a:off x="5580000" y="1773360"/>
            <a:ext cx="32162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药物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长期服泻药、灌肠等因素也可引起肠壁神经麻痹，导致便秘的发生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2" name="Picture 4" descr="yfzx_dwxm_5"/>
          <p:cNvPicPr/>
          <p:nvPr/>
        </p:nvPicPr>
        <p:blipFill>
          <a:blip r:embed="rId1"/>
          <a:stretch/>
        </p:blipFill>
        <p:spPr>
          <a:xfrm>
            <a:off x="3924360" y="3716280"/>
            <a:ext cx="37846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器质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梗阻、肠粘连、肠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腔或盆腔内肿瘤压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直肠或肛门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数减少，粪便量少，干结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、下坠感、排便不尽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门疼痛、肛裂、痔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543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便秘的危害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8640" y="1052640"/>
            <a:ext cx="843624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皮肤粘膜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皮肤色素沉着，面色灰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消化道系统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可导致患者出现食欲不振、腹部胀满、嗳气、口苦、肛门排气多等表现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用力排便会导致肛裂、痔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肠壁长期受粪便刺激，增加了其癌变的发生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心血管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诱发下肢静脉曲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心绞痛，心肌梗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脑出血，颅内压增高，甚至脑疝等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神经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量毒素吸收入血可导致患者出现记忆力下降，注意力不集中，思维迟缓等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15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疾病史、药物史、饮食、心理、环境、活动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排便频率、性状、量、费力程度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对功能性健康型态的影响：有无肛周疼痛、知识、心理应对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诊断、治疗及护理经过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护理诊断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组织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便秘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各类便秘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便秘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用自己的语言解释便秘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2680"/>
            <a:ext cx="85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便秘是指排便频率减少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周少于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粪便干结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并常有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排便困难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感觉。</a:t>
            </a:r>
            <a:endParaRPr b="1" lang="en-US" sz="3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  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4" descr="20060819230220954"/>
          <p:cNvPicPr/>
          <p:nvPr/>
        </p:nvPicPr>
        <p:blipFill>
          <a:blip r:embed="rId1"/>
          <a:stretch/>
        </p:blipFill>
        <p:spPr>
          <a:xfrm>
            <a:off x="6013440" y="3600360"/>
            <a:ext cx="26589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3" descr="01300000201178121767511097223"/>
          <p:cNvPicPr/>
          <p:nvPr/>
        </p:nvPicPr>
        <p:blipFill>
          <a:blip r:embed="rId1"/>
          <a:stretch/>
        </p:blipFill>
        <p:spPr>
          <a:xfrm>
            <a:off x="5869080" y="1773360"/>
            <a:ext cx="3003480" cy="424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52360" y="1486080"/>
            <a:ext cx="60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件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内容物足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肠道功能（肌肉张力和蠕动功能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肌肉功能正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功能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xinsimple_47203040910096252073414"/>
          <p:cNvPicPr/>
          <p:nvPr/>
        </p:nvPicPr>
        <p:blipFill>
          <a:blip r:embed="rId1"/>
          <a:stretch/>
        </p:blipFill>
        <p:spPr>
          <a:xfrm>
            <a:off x="2627280" y="2205000"/>
            <a:ext cx="51386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0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饮食因素</a:t>
            </a:r>
            <a:br>
              <a:rPr sz="2500"/>
            </a:br>
            <a:r>
              <a:rPr b="0" lang="zh-CN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Picture 3" descr="14915914"/>
          <p:cNvPicPr/>
          <p:nvPr/>
        </p:nvPicPr>
        <p:blipFill>
          <a:blip r:embed="rId1"/>
          <a:stretch/>
        </p:blipFill>
        <p:spPr>
          <a:xfrm>
            <a:off x="5292720" y="3068640"/>
            <a:ext cx="3481560" cy="33321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468360" y="1343160"/>
            <a:ext cx="806436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摄入的食物过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饮食过于精细少渣，长期缺乏食物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液体摄入量过少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习惯因素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339920"/>
            <a:ext cx="807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工作因素，不能在有便意时及时去排便，久而久之导致排便不畅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在排便时同时做一些其他的事，比如看报、看小说、听音乐之类的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意识地抑制排便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造成排便反射感觉降低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姿势、便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W020070318390253854674"/>
          <p:cNvPicPr/>
          <p:nvPr/>
        </p:nvPicPr>
        <p:blipFill>
          <a:blip r:embed="rId1"/>
          <a:stretch/>
        </p:blipFill>
        <p:spPr>
          <a:xfrm>
            <a:off x="6084720" y="4078440"/>
            <a:ext cx="281952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活动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3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活动量过少，使得肠蠕动缓慢，肠内容物通过时间延长，肠内水分被过度吸收，粪便干结，通过更加受阻，从而导致恶性循环。</a:t>
            </a:r>
            <a:r>
              <a:rPr b="1" lang="zh-CN" sz="19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4498582_1"/>
          <p:cNvPicPr/>
          <p:nvPr/>
        </p:nvPicPr>
        <p:blipFill>
          <a:blip r:embed="rId1"/>
          <a:stretch/>
        </p:blipFill>
        <p:spPr>
          <a:xfrm>
            <a:off x="3419640" y="3357720"/>
            <a:ext cx="5040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社会心理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1080" y="1628280"/>
            <a:ext cx="87120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精神上受到强烈刺激、惊恐、情绪紧张或注意力高度集中某一工作等会使便意消失，形成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20060327135803688"/>
          <p:cNvPicPr/>
          <p:nvPr/>
        </p:nvPicPr>
        <p:blipFill>
          <a:blip r:embed="rId1"/>
          <a:stretch/>
        </p:blipFill>
        <p:spPr>
          <a:xfrm>
            <a:off x="4067280" y="3357720"/>
            <a:ext cx="3457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20:41Z</dcterms:created>
  <dc:creator>user</dc:creator>
  <dc:description/>
  <cp:keywords/>
  <dc:language>en-US</dc:language>
  <cp:lastModifiedBy>赵欣</cp:lastModifiedBy>
  <cp:lastPrinted>1899-12-30T00:00:00Z</cp:lastPrinted>
  <dcterms:modified xsi:type="dcterms:W3CDTF">2015-12-16T08:04:34Z</dcterms:modified>
  <cp:revision>12</cp:revision>
  <dc:subject/>
  <dc:title>便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